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779E-63D0-48B5-8EAF-7255C777DB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0612-5F91-4443-B0D5-832AABF5F5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104-E2E6-43BC-9AF4-89B5D809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0EF-50C0-457E-BBEB-0FA06D7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808-518A-45CF-A64F-186E286E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3BC-FBB1-4F31-ACAB-0438F1BE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2F6-F758-45CE-9880-44A72A1E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8EB-B00E-4FDB-BE87-18A487B9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BEB-8594-4BEE-A690-331FBAEE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7D9-068C-4E8B-844D-6FDA1552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9D7-E2FF-46AC-B644-3CCF723A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6AF-B211-4389-B6D3-4357DE0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7D8-B5CA-48E4-9619-CEE762BD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143-11BE-4EF4-8DEE-3880CB7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407-603B-44D4-981B-B4C5535ADE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prowadzenie do roku trzeciego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Nowe decyzje, zatrudnienie, inwestyc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Nowe decyzj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trzecim roku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ałalności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ędziecie mog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rudnić własnych pracowników obsług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rudnić własnych pracowników administracyjn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talić ich wynagrodzenie i formę zatrudn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atrudnieni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zystkie szczegóły dotyczące zatrudnienia znajdziecie w Urzędzie Pracy. Zapoznajcie się z rodzajami umów, a następnie ze stawkami płac, aby ustalić odpowiednie wynagrodzenie dla swoich pracowni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530280" y="3571920"/>
            <a:ext cx="793116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atrudnieni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zelkie decyzje dotyczące zatrudnienia podejmujecie w zakładce „zatrudnienie” umieszczonej w Hotel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atrudnieni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jawią się również możliwości przeprowadzenia szkoleń pracowników oraz motywowanie ich premiami finansowy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bajcie o swoich ludzi – dzięki temu lepiej wypełnią swoje obowiąz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06T09:49:31Z</dcterms:modified>
  <cp:revision>14</cp:revision>
  <dc:subject/>
  <dc:title>Slajd 1</dc:title>
</cp:coreProperties>
</file>